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drumroll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909B-7F6A-49CD-81B8-79611605701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3E41-3250-4273-B98B-9D8F8A62738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D7A-FA17-4720-8006-C5AE5A40FB7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D1A1-CFB4-4785-B678-24A7F031B17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6030-16A2-411E-A9D1-C4E20899A2A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B37B-9C0C-4842-B29F-1C780495D52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1862-2FFA-4845-8D05-0F165EE22AC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37A6-858A-4032-8739-06A98657EDC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468-DF9C-43DC-AA35-8073F46EDF9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A6E5-2AD8-42A7-8126-90AB1A4A6DD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EA6F-3004-428D-934A-D7931B6DD04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A71A-15DE-48CE-AAD2-B205F1471CA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A2FF-60A4-4A23-8566-7196D75CF9E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99DA-511E-4F80-8103-E86A8CFA14B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1DA5-18AF-43BA-8588-6AD006EE1AC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EC40-7281-41DD-AFFC-43045EC345F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CEC1-35A7-461A-A56C-92325C0C771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919F-FCFB-40FF-87E9-6A220F2DC5E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2071-02B2-40EE-BFFA-FF0E97383D7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8586-5FFF-4DA4-9F52-C197280C1B3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D1E6-E02E-4388-96B4-C76D944F3F7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B4D-D47F-4D69-B1C2-22BE048C506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A5CA-3CA1-4506-B681-41610E9643D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F4FA-690C-44A6-9C4E-9F7877296A1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FAD4-FEAF-4B6E-AAF3-9421A6AC093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71A2-EAC3-4F89-81CE-6E9455BC67C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DC11-5082-4AEB-BB95-529200A4B5E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A18E-E0EF-4730-ABF6-696A14AE613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D79BC-89D6-42D5-8AA6-77ADF8C7F1D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CEE6-8F58-4CE1-A824-F5DAB2C1089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3014-9321-4393-A671-23F7CE18844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1EC7-C1EC-4F09-9000-CF281FEF196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03EE-57B4-4433-AF16-9BA48F51370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A395-D69C-4CF6-9EA9-C7C7BAE7A72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4112-3F7A-4008-9E58-1D828BC309A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BD25-6BE1-4605-8707-2F72F47DE72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F89-C2E5-4428-85A0-57B6E290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3700-F13C-46FB-A025-7FD388C1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BA7-B812-4A0E-89E3-27E52B43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A2A-D6E9-4EEF-BCEB-B4415BA18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19D-5069-4717-BB69-92C6F6FC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C00-2559-425F-AC78-9D2C6D17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4E0-E0BF-40FD-8D24-0BA869A8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509-B877-4D93-B1DE-5A21FA8F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9C9-2907-4107-B699-9274236A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400C-E6D0-4436-B81A-28BB2BE2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FAA-EF81-449C-99D9-B78F6376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7B6F-0DC3-4FCB-8573-7214A44E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15EA-A216-41E3-BA38-1CF4F27B8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3.xml"/><Relationship Id="rId3" Type="http://schemas.openxmlformats.org/officeDocument/2006/relationships/slide" Target="slide18.xml"/><Relationship Id="rId4" Type="http://schemas.openxmlformats.org/officeDocument/2006/relationships/slide" Target="slide24.xml"/><Relationship Id="rId5" Type="http://schemas.openxmlformats.org/officeDocument/2006/relationships/slide" Target="slide29.xml"/><Relationship Id="rId6" Type="http://schemas.openxmlformats.org/officeDocument/2006/relationships/slide" Target=""/><Relationship Id="rId7" Type="http://schemas.openxmlformats.org/officeDocument/2006/relationships/slide" Target="slide6.xml"/><Relationship Id="rId8" Type="http://schemas.openxmlformats.org/officeDocument/2006/relationships/slide" Target="slide12.xml"/><Relationship Id="rId9" Type="http://schemas.openxmlformats.org/officeDocument/2006/relationships/slide" Target="slide17.xml"/><Relationship Id="rId10" Type="http://schemas.openxmlformats.org/officeDocument/2006/relationships/slide" Target="slide23.xml"/><Relationship Id="rId11" Type="http://schemas.openxmlformats.org/officeDocument/2006/relationships/slide" Target="slide28.xml"/><Relationship Id="rId12" Type="http://schemas.openxmlformats.org/officeDocument/2006/relationships/slide" Target="slide4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1.xml"/><Relationship Id="rId16" Type="http://schemas.openxmlformats.org/officeDocument/2006/relationships/slide" Target="slide26.xml"/><Relationship Id="rId17" Type="http://schemas.openxmlformats.org/officeDocument/2006/relationships/slide" Target="slide5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2.xml"/><Relationship Id="rId21" Type="http://schemas.openxmlformats.org/officeDocument/2006/relationships/slide" Target="slide27.xml"/><Relationship Id="rId22" Type="http://schemas.openxmlformats.org/officeDocument/2006/relationships/slide" Target=""/><Relationship Id="rId23" Type="http://schemas.openxmlformats.org/officeDocument/2006/relationships/slide" Target="slide9.xml"/><Relationship Id="rId24" Type="http://schemas.openxmlformats.org/officeDocument/2006/relationships/slide" Target="slide14.xml"/><Relationship Id="rId25" Type="http://schemas.openxmlformats.org/officeDocument/2006/relationships/slide" Target="slide20.xml"/><Relationship Id="rId26" Type="http://schemas.openxmlformats.org/officeDocument/2006/relationships/slide" Target="slide25.xml"/><Relationship Id="rId27" Type="http://schemas.openxmlformats.org/officeDocument/2006/relationships/slide" Target="slide31.xml"/><Relationship Id="rId28" Type="http://schemas.openxmlformats.org/officeDocument/2006/relationships/slide" Target="slide32.xml"/><Relationship Id="rId29" Type="http://schemas.openxmlformats.org/officeDocument/2006/relationships/slide" Target="slide33.xml"/><Relationship Id="rId30" Type="http://schemas.openxmlformats.org/officeDocument/2006/relationships/slide" Target="slide34.xml"/><Relationship Id="rId31" Type="http://schemas.openxmlformats.org/officeDocument/2006/relationships/slide" Target="slide35.xml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828800" y="3691080"/>
            <a:ext cx="5452920" cy="1338120"/>
          </a:xfrm>
          <a:prstGeom prst="rect">
            <a:avLst/>
          </a:prstGeom>
          <a:ln w="0">
            <a:noFill/>
          </a:ln>
        </p:spPr>
      </p:pic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-19080" y="1536840"/>
            <a:ext cx="924228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ich new members cannot be registered online?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Dual, transfer and reinstated members.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is the status of Toastmasters clubs in relation to income tax and G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Exempt from income tax and registering for G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are International Proxie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o should they be sent to and when should they be s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ite postcards to be signed and sent to the District Governor between April and Ju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y does a Toastmasters club need an AB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Needed to raise an invoice for membership to a club or to register a club website URL add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is the club officer list and when must it be submitted b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list a club submits to WHQ to update leadership records for the club by June 3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10 items plus a membership requirement are designed to assure club success and vita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istinguished Club Plan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n must Club officer elections be he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t the first meeting in M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/>
          <p:cNvSpPr/>
          <p:nvPr/>
        </p:nvSpPr>
        <p:spPr>
          <a:xfrm>
            <a:off x="685800" y="1828800"/>
            <a:ext cx="7772400" cy="20574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name of the program that contains 15 manuals, each containing 5 speech projec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Advanced Communication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685800" y="45720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ILY DOU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minimum number of members which a club should strive to maintai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we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  <a:hlinkClick r:id="rId2" action="ppaction://hlinksldjump"/>
              </a:rPr>
              <a:t>BO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4 things are necessary for Quality Club meeting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50 bonus po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riety, fun, time limits and manual spee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3"/>
          <p:cNvSpPr/>
          <p:nvPr/>
        </p:nvSpPr>
        <p:spPr>
          <a:xfrm>
            <a:off x="252360" y="6054840"/>
            <a:ext cx="126864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1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1689120" y="6042960"/>
            <a:ext cx="129528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2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6"/>
          <p:cNvSpPr/>
          <p:nvPr/>
        </p:nvSpPr>
        <p:spPr>
          <a:xfrm>
            <a:off x="3162240" y="6043680"/>
            <a:ext cx="133344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3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7"/>
          <p:cNvSpPr/>
          <p:nvPr/>
        </p:nvSpPr>
        <p:spPr>
          <a:xfrm>
            <a:off x="4648320" y="6043680"/>
            <a:ext cx="129528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4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8"/>
          <p:cNvSpPr/>
          <p:nvPr/>
        </p:nvSpPr>
        <p:spPr>
          <a:xfrm>
            <a:off x="6146640" y="6043680"/>
            <a:ext cx="129564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5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9">
            <a:hlinkClick r:id="rId6" action="ppaction://hlinksldjump"/>
          </p:cNvPr>
          <p:cNvSpPr/>
          <p:nvPr/>
        </p:nvSpPr>
        <p:spPr>
          <a:xfrm>
            <a:off x="228600" y="49021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7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0"/>
          <p:cNvSpPr/>
          <p:nvPr/>
        </p:nvSpPr>
        <p:spPr>
          <a:xfrm>
            <a:off x="1676520" y="4900320"/>
            <a:ext cx="13078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8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1"/>
          <p:cNvSpPr/>
          <p:nvPr/>
        </p:nvSpPr>
        <p:spPr>
          <a:xfrm>
            <a:off x="3162240" y="4913280"/>
            <a:ext cx="12956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9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22"/>
          <p:cNvSpPr/>
          <p:nvPr/>
        </p:nvSpPr>
        <p:spPr>
          <a:xfrm>
            <a:off x="4622760" y="4913280"/>
            <a:ext cx="13208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0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23"/>
          <p:cNvSpPr/>
          <p:nvPr/>
        </p:nvSpPr>
        <p:spPr>
          <a:xfrm>
            <a:off x="6134040" y="4900320"/>
            <a:ext cx="12956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1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228600" y="25891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2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1689120" y="26143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3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3137040" y="2614320"/>
            <a:ext cx="12826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4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4572000" y="261432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5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6095880" y="2614320"/>
            <a:ext cx="12956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6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4"/>
          <p:cNvSpPr/>
          <p:nvPr/>
        </p:nvSpPr>
        <p:spPr>
          <a:xfrm>
            <a:off x="228600" y="37843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7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5"/>
          <p:cNvSpPr/>
          <p:nvPr/>
        </p:nvSpPr>
        <p:spPr>
          <a:xfrm>
            <a:off x="1689120" y="377028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8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6"/>
          <p:cNvSpPr/>
          <p:nvPr/>
        </p:nvSpPr>
        <p:spPr>
          <a:xfrm>
            <a:off x="3149640" y="377028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19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7"/>
          <p:cNvSpPr/>
          <p:nvPr/>
        </p:nvSpPr>
        <p:spPr>
          <a:xfrm>
            <a:off x="4597560" y="3757320"/>
            <a:ext cx="13460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0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8"/>
          <p:cNvSpPr/>
          <p:nvPr/>
        </p:nvSpPr>
        <p:spPr>
          <a:xfrm>
            <a:off x="6121440" y="37573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1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4">
            <a:hlinkClick r:id="rId22" action="ppaction://hlinksldjump"/>
          </p:cNvPr>
          <p:cNvSpPr/>
          <p:nvPr/>
        </p:nvSpPr>
        <p:spPr>
          <a:xfrm>
            <a:off x="236520" y="1471320"/>
            <a:ext cx="12794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5"/>
          <p:cNvSpPr/>
          <p:nvPr/>
        </p:nvSpPr>
        <p:spPr>
          <a:xfrm>
            <a:off x="1676520" y="1471320"/>
            <a:ext cx="129528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3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6"/>
          <p:cNvSpPr/>
          <p:nvPr/>
        </p:nvSpPr>
        <p:spPr>
          <a:xfrm>
            <a:off x="3124080" y="1470600"/>
            <a:ext cx="12956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4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37"/>
          <p:cNvSpPr/>
          <p:nvPr/>
        </p:nvSpPr>
        <p:spPr>
          <a:xfrm>
            <a:off x="4572000" y="1471320"/>
            <a:ext cx="133344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5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38"/>
          <p:cNvSpPr/>
          <p:nvPr/>
        </p:nvSpPr>
        <p:spPr>
          <a:xfrm>
            <a:off x="6095880" y="1471320"/>
            <a:ext cx="135252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6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6"/>
          <p:cNvSpPr/>
          <p:nvPr/>
        </p:nvSpPr>
        <p:spPr>
          <a:xfrm>
            <a:off x="223920" y="230760"/>
            <a:ext cx="1299960" cy="9658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Club Success Pl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7"/>
          <p:cNvSpPr/>
          <p:nvPr/>
        </p:nvSpPr>
        <p:spPr>
          <a:xfrm>
            <a:off x="1681200" y="244440"/>
            <a:ext cx="1285920" cy="9651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Club Oper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8"/>
          <p:cNvSpPr/>
          <p:nvPr/>
        </p:nvSpPr>
        <p:spPr>
          <a:xfrm>
            <a:off x="3124080" y="394920"/>
            <a:ext cx="1295640" cy="678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TM Hodge Po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9"/>
          <p:cNvSpPr/>
          <p:nvPr/>
        </p:nvSpPr>
        <p:spPr>
          <a:xfrm>
            <a:off x="4573440" y="107280"/>
            <a:ext cx="1368720" cy="12524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District 70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0"/>
          <p:cNvSpPr/>
          <p:nvPr/>
        </p:nvSpPr>
        <p:spPr>
          <a:xfrm>
            <a:off x="6095880" y="250920"/>
            <a:ext cx="1355760" cy="9651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Edu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8"/>
          <p:cNvSpPr/>
          <p:nvPr/>
        </p:nvSpPr>
        <p:spPr>
          <a:xfrm>
            <a:off x="7613640" y="1471320"/>
            <a:ext cx="135252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7" action="ppaction://hlinksldjump"/>
              </a:rPr>
              <a:t>1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59"/>
          <p:cNvSpPr/>
          <p:nvPr/>
        </p:nvSpPr>
        <p:spPr>
          <a:xfrm>
            <a:off x="7620120" y="261000"/>
            <a:ext cx="1380960" cy="9126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Leadersh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0"/>
          <p:cNvSpPr/>
          <p:nvPr/>
        </p:nvSpPr>
        <p:spPr>
          <a:xfrm>
            <a:off x="7620120" y="261432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8" action="ppaction://hlinksldjump"/>
              </a:rPr>
              <a:t>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61"/>
          <p:cNvSpPr/>
          <p:nvPr/>
        </p:nvSpPr>
        <p:spPr>
          <a:xfrm>
            <a:off x="7620120" y="375732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29" action="ppaction://hlinksldjump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2"/>
          <p:cNvSpPr/>
          <p:nvPr/>
        </p:nvSpPr>
        <p:spPr>
          <a:xfrm>
            <a:off x="7620120" y="4900320"/>
            <a:ext cx="1371600" cy="609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66"/>
                </a:solidFill>
                <a:uFillTx/>
                <a:latin typeface="Arial"/>
                <a:hlinkClick r:id="rId30" action="ppaction://hlinksldjump"/>
              </a:rPr>
              <a:t>4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63"/>
          <p:cNvSpPr/>
          <p:nvPr/>
        </p:nvSpPr>
        <p:spPr>
          <a:xfrm>
            <a:off x="7620120" y="6043680"/>
            <a:ext cx="1371600" cy="5425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66"/>
                </a:solidFill>
                <a:uFillTx/>
                <a:latin typeface="Arial"/>
                <a:hlinkClick r:id="rId31" action="ppaction://hlinksldjump"/>
              </a:rPr>
              <a:t>5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is the URL address of the District 70 websi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70toastmasters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762120" y="3808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should judges come from for club speech contest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All club members not involved as speakers or contest official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ere should details of the President, VPE and club contact be sent by May 31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the District 70 Directory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should be done with the dues renewal confirmation received by email from WHQ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t should be forwarded to the District Membership Returns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How much Public Liability Insurance does District 70 have for District and Club functions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$20,000,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awarded to Toastmasters who complete 10 speeches in the CC manual and submit an application to TI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Competent Communicator certific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are the two tracks you pursue in Toastmast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The Communication and Leadership trac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wo programs from across what two series are required for you to complete your Advanced Communicator Sil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Successful Club Series or the Better Speaker S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wo programs from across what  two series are required for you to complete your Advanced Leader Bronz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Successful Club Series or the Leadership Excellence S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High Performance Leadership project is one of the requirements for what awa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Advanced Leader Silver aw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O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4"/>
          <p:cNvSpPr/>
          <p:nvPr/>
        </p:nvSpPr>
        <p:spPr>
          <a:xfrm>
            <a:off x="685800" y="228600"/>
            <a:ext cx="7772400" cy="37018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are the minimum number of goals required for a club to achie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tinguished Club” Statu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Five (of the 10 goal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lus a membership requiremen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What is a practical guide to becoming a better lead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50 bonus po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Competent Leadership manu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ich district officer will be visiting your club officially twice a ye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Area Govern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astmasters who have completed their CC and CL and are or have been a club officer should consider completing which awa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ced Leader Bro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erving as a club sponsor, club mentor or club coach are requirements for fulfilling which awar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dvanced Leader Sil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685800" y="2209680"/>
            <a:ext cx="7772400" cy="17528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are the titles of the top three district office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istrict Governor,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Lt. Gov. Education &amp; Training,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Lt. Gov. Marke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>
            <a:off x="685800" y="228600"/>
            <a:ext cx="7772400" cy="17524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AILY DOU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award does a Toastmaster receive once he/she has completed all the requirements for the AC Gold and the Advanced Leader Silver award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he Distinguished Toastmaster award (DT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685800" y="260280"/>
            <a:ext cx="7772400" cy="33973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ow does a club achieve the Club Officer Training goal in the DC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3">
            <a:hlinkClick r:id="rId1" action="ppaction://hlinksldjump"/>
          </p:cNvPr>
          <p:cNvSpPr/>
          <p:nvPr/>
        </p:nvSpPr>
        <p:spPr>
          <a:xfrm>
            <a:off x="685800" y="3886200"/>
            <a:ext cx="7772400" cy="26352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By sending four qualified</a:t>
            </a:r>
            <a:br>
              <a:rPr sz="3600"/>
            </a:b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members to a training session </a:t>
            </a:r>
            <a:br>
              <a:rPr sz="3600"/>
            </a:b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June to August and again </a:t>
            </a:r>
            <a:br>
              <a:rPr sz="3600"/>
            </a:b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in December to Febru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en must Dues Renewal Invo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e completed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d paid b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By March 31 and September 30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minimum number of members needed to charter a clu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we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designation does a club earn when they achieve 9 DCP goals and reach the required membership go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esident’s Distinguished Clu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  <a:hlinkClick r:id="rId2" action="ppaction://hlinksldjump"/>
              </a:rPr>
              <a:t>BO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o attend club meetings regularly is the first of 10 items on wha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(50 bonus poi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The Toastmasters Prom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b2b2b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685800" y="260280"/>
            <a:ext cx="7772400" cy="37022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00"/>
                </a:solidFill>
                <a:latin typeface="Arial"/>
              </a:rPr>
              <a:t>What is the new member application form calle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3">
            <a:hlinkClick r:id="rId1" action="ppaction://hlinksldjump"/>
          </p:cNvPr>
          <p:cNvSpPr/>
          <p:nvPr/>
        </p:nvSpPr>
        <p:spPr>
          <a:xfrm>
            <a:off x="685800" y="4191120"/>
            <a:ext cx="7772400" cy="2330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849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00"/>
                </a:solidFill>
                <a:latin typeface="Arial"/>
              </a:rPr>
              <a:t>Form 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5:15:21Z</dcterms:created>
  <dc:creator>Employee of</dc:creator>
  <dc:description/>
  <dc:language>en-US</dc:language>
  <cp:lastModifiedBy>Gary Wilson</cp:lastModifiedBy>
  <dcterms:modified xsi:type="dcterms:W3CDTF">2012-06-15T12:38:48Z</dcterms:modified>
  <cp:revision>68</cp:revision>
  <dc:subject/>
  <dc:title>No Slide Title</dc:title>
</cp:coreProperties>
</file>