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981F-0DAD-4309-AB9A-F83F2F70BA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FDA-1282-4031-B40B-0713A5A4FC1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232D-0B6C-4E98-9717-CC2FCC34603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1391-3801-47D0-A03D-93A8040807B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AA5-7DF2-4DFA-A742-AF1356BCFEC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151-FD30-435D-8149-D6A8702ED23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68E-FEC9-4EC7-B3B3-9B51090D318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5C1-8CC2-4FB7-BD74-3E47CDA63F5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EF61-6495-42E6-BABF-AA359336C4A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180B-C54F-4893-9B3F-6D1AC43EC54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B60E-85F9-4F87-A189-1250888C2D9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77F-78AD-427A-B498-956FA14F4BF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63BE-5D95-49C8-AF0D-D7552B9F685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8CA-5206-4A82-8B04-26D7F39A56E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E39-F449-4A1B-9059-F6501DD8FC6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B670-BC7B-4C9A-9C12-E7BD073B4BF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FD3-6065-4E15-9575-5B061A44808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CF9E-60CE-4186-A540-44BB5F89E27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A61-1719-4A2B-BD38-DAEE46135E0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64B-1933-4EFE-81C3-690F1FFDBDA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C880-4DA6-47A7-9796-5BA937B8BE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39CD-712E-4506-AAB3-B8DDF4E8BD3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92A-B8D8-46A1-844F-5FCAF84EA68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8AE5-69A6-4795-BEE4-5F6D73407CB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E39-D218-40EA-95A0-5B26BF1AE8F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183-CFB5-44C0-B3DB-A81D64BE97B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8608-A7C0-45C2-BCCA-400F87BAFFF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F7D1-A1E7-481E-9F7A-D969FFE45DC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A7E0-36E7-415F-A95C-0C7F377B191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D3B-0B0F-48FC-AC3C-B01E4006334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B262-8FD6-43AC-BF67-8269982FD96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D5F-6630-415C-97B8-AB6B42BADDE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756-853A-45BC-B6B0-08D064EABB4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F06-7332-45F0-88BD-D376F0A0CD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8361-AEEF-4F8A-9492-5A0144BE733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0890-356A-4346-BC4A-461021CC8CB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C54-4BC1-4BB1-A9B7-54F93056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3CC-5DCD-4F1E-9A01-383FF939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6EA-34B2-42ED-9302-4EE89367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49D-99ED-46BF-A622-558573CD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72B-B07F-43E6-85EA-D933F26B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EBF-0567-418B-BCA5-09FD676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E79-53A7-482A-81C6-FF65A658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7D7-ED34-4689-8C52-8224BD89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BC9-1ACE-428D-A5C2-7976662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EBC-4C18-4066-94CD-9F41004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4F2-0EAF-44F2-AE64-905F2D6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057-24DA-4AA5-9BB6-D31F882D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7D4-2862-4402-948A-97912F18A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4.xml"/><Relationship Id="rId5" Type="http://schemas.openxmlformats.org/officeDocument/2006/relationships/slide" Target="slide29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12.xml"/><Relationship Id="rId9" Type="http://schemas.openxmlformats.org/officeDocument/2006/relationships/slide" Target="slide17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4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1.xml"/><Relationship Id="rId16" Type="http://schemas.openxmlformats.org/officeDocument/2006/relationships/slide" Target="slide26.xml"/><Relationship Id="rId17" Type="http://schemas.openxmlformats.org/officeDocument/2006/relationships/slide" Target="slide5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2.xml"/><Relationship Id="rId21" Type="http://schemas.openxmlformats.org/officeDocument/2006/relationships/slide" Target="slide27.xml"/><Relationship Id="rId22" Type="http://schemas.openxmlformats.org/officeDocument/2006/relationships/slide" Target=""/><Relationship Id="rId23" Type="http://schemas.openxmlformats.org/officeDocument/2006/relationships/slide" Target="slide9.xml"/><Relationship Id="rId24" Type="http://schemas.openxmlformats.org/officeDocument/2006/relationships/slide" Target="slide14.xml"/><Relationship Id="rId25" Type="http://schemas.openxmlformats.org/officeDocument/2006/relationships/slide" Target="slide20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4.xml"/><Relationship Id="rId31" Type="http://schemas.openxmlformats.org/officeDocument/2006/relationships/slide" Target="slide35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828800" y="3691080"/>
            <a:ext cx="5452920" cy="13381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-19080" y="1536840"/>
            <a:ext cx="92422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ich new members cannot be registered online?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ual, transfer and reinstated members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the status of Toastmasters clubs in relation to income tax and G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Exempt from income tax and registering for G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re International Proxi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should they be sent to and when should they be s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ite postcards to be signed and sent to the District Governor between April and Ju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y does a Toastmasters club need an AB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eeded to raise an invoice for membership to a club or to register a club website URL add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the club officer list and when must it be submitted b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list a club submits to WHQ to update leadership records for the club by June 3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10 items plus a membership requirement are designed to assure club success and vita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istinguished Club Plan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n must Club officer elections be he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t the first meeting in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685800" y="1828800"/>
            <a:ext cx="7772400" cy="2057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name of the program that contains 15 manuals, each containing 5 speech projec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Advanced Communication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85800" y="4572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ILY DOU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minimum number of members which a club should strive to maint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we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BO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4 things are necessary for Quality Club meet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50 bonus po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ety, fun, time limits and manual spee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3"/>
          <p:cNvSpPr/>
          <p:nvPr/>
        </p:nvSpPr>
        <p:spPr>
          <a:xfrm>
            <a:off x="252360" y="6054840"/>
            <a:ext cx="126864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1689120" y="6042960"/>
            <a:ext cx="129528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162240" y="6043680"/>
            <a:ext cx="133344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3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4648320" y="6043680"/>
            <a:ext cx="129528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4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6146640" y="6043680"/>
            <a:ext cx="129564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5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9">
            <a:hlinkClick r:id="rId6" action="ppaction://hlinksldjump"/>
          </p:cNvPr>
          <p:cNvSpPr/>
          <p:nvPr/>
        </p:nvSpPr>
        <p:spPr>
          <a:xfrm>
            <a:off x="228600" y="49021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7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1676520" y="4900320"/>
            <a:ext cx="13078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8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1"/>
          <p:cNvSpPr/>
          <p:nvPr/>
        </p:nvSpPr>
        <p:spPr>
          <a:xfrm>
            <a:off x="3162240" y="491328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622760" y="4913280"/>
            <a:ext cx="13208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0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3"/>
          <p:cNvSpPr/>
          <p:nvPr/>
        </p:nvSpPr>
        <p:spPr>
          <a:xfrm>
            <a:off x="6134040" y="490032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1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228600" y="25891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2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1689120" y="2614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3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3137040" y="2614320"/>
            <a:ext cx="12826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4572000" y="2614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5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6095880" y="261432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6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228600" y="3784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1689120" y="37702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8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3149640" y="37702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4597560" y="3757320"/>
            <a:ext cx="13460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0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6121440" y="3757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1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4">
            <a:hlinkClick r:id="rId22" action="ppaction://hlinksldjump"/>
          </p:cNvPr>
          <p:cNvSpPr/>
          <p:nvPr/>
        </p:nvSpPr>
        <p:spPr>
          <a:xfrm>
            <a:off x="236520" y="1471320"/>
            <a:ext cx="12794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5"/>
          <p:cNvSpPr/>
          <p:nvPr/>
        </p:nvSpPr>
        <p:spPr>
          <a:xfrm>
            <a:off x="1676520" y="1471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3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6"/>
          <p:cNvSpPr/>
          <p:nvPr/>
        </p:nvSpPr>
        <p:spPr>
          <a:xfrm>
            <a:off x="3124080" y="147060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4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7"/>
          <p:cNvSpPr/>
          <p:nvPr/>
        </p:nvSpPr>
        <p:spPr>
          <a:xfrm>
            <a:off x="4572000" y="1471320"/>
            <a:ext cx="13334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5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8"/>
          <p:cNvSpPr/>
          <p:nvPr/>
        </p:nvSpPr>
        <p:spPr>
          <a:xfrm>
            <a:off x="6095880" y="1471320"/>
            <a:ext cx="135252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6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223920" y="230760"/>
            <a:ext cx="1299960" cy="965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Club Success Pl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1681200" y="244440"/>
            <a:ext cx="1285920" cy="9651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Club Ope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3124080" y="394920"/>
            <a:ext cx="1295640" cy="67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TM Hodge Po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4573440" y="107280"/>
            <a:ext cx="1368720" cy="1252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District 70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0"/>
          <p:cNvSpPr/>
          <p:nvPr/>
        </p:nvSpPr>
        <p:spPr>
          <a:xfrm>
            <a:off x="6095880" y="250920"/>
            <a:ext cx="1355760" cy="9651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Edu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8"/>
          <p:cNvSpPr/>
          <p:nvPr/>
        </p:nvSpPr>
        <p:spPr>
          <a:xfrm>
            <a:off x="7613640" y="1471320"/>
            <a:ext cx="135252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620120" y="261000"/>
            <a:ext cx="1380960" cy="912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0"/>
          <p:cNvSpPr/>
          <p:nvPr/>
        </p:nvSpPr>
        <p:spPr>
          <a:xfrm>
            <a:off x="7620120" y="2614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8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1"/>
          <p:cNvSpPr/>
          <p:nvPr/>
        </p:nvSpPr>
        <p:spPr>
          <a:xfrm>
            <a:off x="7620120" y="3757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9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2"/>
          <p:cNvSpPr/>
          <p:nvPr/>
        </p:nvSpPr>
        <p:spPr>
          <a:xfrm>
            <a:off x="7620120" y="4900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30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3"/>
          <p:cNvSpPr/>
          <p:nvPr/>
        </p:nvSpPr>
        <p:spPr>
          <a:xfrm>
            <a:off x="7620120" y="6043680"/>
            <a:ext cx="137160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31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the URL address of the District 70 websi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70toastmasters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762120" y="3808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should judges come from for club speech contes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club members not involved as speakers or contest offic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should details of the President, VPE and club contact be sent by May 31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District 70 Directory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should be done with the dues renewal confirmation received by email from WHQ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t should be forwarded to the District Membership Returns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How much Public Liability Insurance does District 70 have for District and Club function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$2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awarded to Toastmasters who complete 10 speeches in the CC manual and submit an application to 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Competent Communicator certific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are the two tracks you pursue in Toastmast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The Communication and Leadership tra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wo programs from across what two series are required for you to complete your Advanced Communicator Sil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Successful Club Series or the Better Speaker S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wo programs from across what  two series are required for you to complete your Advanced Leader Bronz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Successful Club Series or the Leadership Excellence S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High Performance Leadership project is one of the requirements for what aw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Advanced Leader Silver a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O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85800" y="228600"/>
            <a:ext cx="7772400" cy="3701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re the minimum number of goals required for a club to achie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inguished Club” Stat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ve (of the 10 goal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lus a membership require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a practical guide to becoming a better lead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50 bonus po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Competent Leadership manu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ich district officer will be visiting your club officially twice a ye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Area Govern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astmasters who have completed their CC and CL and are or have been a club officer should consider completing which aw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ed Leader Bro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rving as a club sponsor, club mentor or club coach are requirements for fulfilling which aw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ed Leader Sil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685800" y="2209680"/>
            <a:ext cx="7772400" cy="1752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re the titles of the top three district offic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rict Governor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t. Gov. Education &amp; Training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t. Gov.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685800" y="228600"/>
            <a:ext cx="7772400" cy="17524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ILY DOU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ward does a Toastmaster receive once he/she has completed all the requirements for the AC Gold and the Advanced Leader Silver awar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istinguished Toastmaster award (D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685800" y="260280"/>
            <a:ext cx="7772400" cy="33973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does a club achieve the Club Officer Training goal in the DC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rId1" action="ppaction://hlinksldjump"/>
          </p:cNvPr>
          <p:cNvSpPr/>
          <p:nvPr/>
        </p:nvSpPr>
        <p:spPr>
          <a:xfrm>
            <a:off x="685800" y="3886200"/>
            <a:ext cx="7772400" cy="26352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y sending four qualified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embers to a training session 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June to August and again 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December to Febru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en must Dues Renewal Invo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 completed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paid b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 March 31 and September 3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minimum number of members needed to charter a clu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we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designation does a club earn when they achieve 9 DCP goals and reach the required membership go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esident’s Distinguished C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BO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attend club meetings regularly is the first of 10 items on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50 bonus po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Toastmasters Prom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What is the new member application form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m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5:15:21Z</dcterms:created>
  <dc:creator>Employee of</dc:creator>
  <dc:description/>
  <dc:language>en-US</dc:language>
  <cp:lastModifiedBy>Gary Wilson</cp:lastModifiedBy>
  <dcterms:modified xsi:type="dcterms:W3CDTF">2012-06-15T12:38:48Z</dcterms:modified>
  <cp:revision>68</cp:revision>
  <dc:subject/>
  <dc:title>No Slide Title</dc:title>
</cp:coreProperties>
</file>